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2B0E-27E6-4532-AAD5-2C11F28861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1698-FE74-475F-98EB-AA76D0B753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801E-95B6-4F46-BCDE-CA6350BF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C4C-27F0-49FD-AADC-0144D93D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519-C743-45B3-8448-04C4F87E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A1BF-317A-4AB2-9EBC-7298BE8B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23BF-295F-46F0-BEB2-CE55551B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EAC-B25B-4EAA-BD27-A085006B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EE21-1194-4C04-827F-4593B03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CCD9-A906-419E-80C3-F0B16E15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AD06-422F-4957-A00A-078CFF3D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9C4B-2EBA-440A-8DA8-FEAF05C7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F59B-E58F-44D5-80D0-3467EDA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5A4-4B15-465F-8F50-903CBF6A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735B-1EB4-40D4-AA1D-ABEC277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3203-10C6-4522-8EC9-E100B0D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07CE-6E52-4D1C-86FC-90A0FE5D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2046-B44F-4A35-885D-3A31FCC9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23ED-F9EA-4B41-81C8-BB31C0AA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AE1-C0C4-41B6-8F9F-CF65134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367-F96C-44E4-93A0-9307719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7C7-7E7F-4311-9FD0-038A9FA1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CEB-4587-4F45-AD1E-356FDACC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7A8-A4B5-468B-BE9E-649813D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DCC-A71B-407F-9809-14A3655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715-EC34-4160-9436-9F1FEDEA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97A-8CE5-4947-949B-A30EEDB673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174-1254-4321-B058-DB9589C27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3640" y="476280"/>
            <a:ext cx="214164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a rif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wy’n meddwl am rif pedwar dig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28760" y="214308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ae’r digid cyntaf yn un traean o’r trydydd 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28760" y="257184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Mae’r pedwerydd digid ddwbl yr ail d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8760" y="3071880"/>
            <a:ext cx="82072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Comic Sans MS"/>
              </a:rPr>
              <a:t>Mae adio’r digid cyntaf a’r trydydd digid yn ddwbl yr ateb y cewch wrth adio yr aiLddigid a’r pedwerydd dig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8760" y="471492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rhif pedwar dig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7500960" y="428760"/>
            <a:ext cx="98892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9-11-29T14:33:33Z</dcterms:modified>
  <cp:revision>6</cp:revision>
  <dc:subject/>
  <dc:title>Y tri olaf</dc:title>
</cp:coreProperties>
</file>